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BF73-3063-49C2-B0D9-A68A0161F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E4DE-3100-4EC4-AF99-27CCCDBDE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5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8E2B-C71E-4A7C-8130-92707CFFD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5B6C-ACA2-4C66-A587-3A5EAC81E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6CBC-C635-455A-AD58-7C60D1426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2D3F-6AD2-478B-9CC9-D1A8FE766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ýzva na podávání žádostí o dotaci pro rok 2016 byla ukončena k 15. 1. 2016. Celkem bylo v systému registrováno 170 ukončených žádostí, z toho 2 žádosti nebyly v termínu doručeny v písemné podobě (příp. přes datovou schránku) MMR, 5 žádostí nesplnilo podmínky programu (žádosti na změnu územního plánu, příp. na regulační plán, resp. všechny uznatelné náklady již byly uhrazeny) a 163 bylo předáno k hodnocení Hodnotící komisi (12. 2. 2016). Rozhodnutí o přidělení dotace jsou předpokládány do konce března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elková požadovaná výše dotace byla cca 35 milionů Kč, přičemž alokace programu byla pro rok 2016 20 mil. Kč. Zájem zejména malých obcí o tento program je velmi vysoký, jelikož pořízení územního plánu je pro tyto obce finančně poměrně náročn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rok 2017 se předpokládá vypsání nové výzvy na podzim 2016 opět s alokací 20 milionů K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9EBA-50C0-4642-A16A-97B07AF81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70B2-8A4F-4D17-BB1E-8CE585DA2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5D7A-02E4-4D73-ADA9-49D3496E7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CBD0-5C86-4CEB-BD4B-880E3676B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1470-749E-40B4-B565-7B4A2FE73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B53D-0E62-49E3-AA44-AAE0B93CE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C3E3-BC13-41AE-9077-02732F47C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11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0CB7-6263-4715-A1A6-18C70929B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rázek 9" descr="podtisk_modry.emf"/>
          <p:cNvPicPr/>
          <p:nvPr/>
        </p:nvPicPr>
        <p:blipFill>
          <a:blip r:embed="rId2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1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Obdélník 8" descr=""/>
          <p:cNvPicPr/>
          <p:nvPr/>
        </p:nvPicPr>
        <p:blipFill>
          <a:blip r:embed="rId3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Obrázek 9" descr="podtisk_modry.emf"/>
          <p:cNvPicPr/>
          <p:nvPr/>
        </p:nvPicPr>
        <p:blipFill>
          <a:blip r:embed="rId3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363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Obdélník 8" descr=""/>
          <p:cNvPicPr/>
          <p:nvPr/>
        </p:nvPicPr>
        <p:blipFill>
          <a:blip r:embed="rId4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  <p:pic>
        <p:nvPicPr>
          <p:cNvPr id="365" name="Obrázek 4" descr="mmr_cr_rgb.emf"/>
          <p:cNvPicPr/>
          <p:nvPr/>
        </p:nvPicPr>
        <p:blipFill>
          <a:blip r:embed="rId5"/>
          <a:stretch/>
        </p:blipFill>
        <p:spPr>
          <a:xfrm>
            <a:off x="468360" y="620640"/>
            <a:ext cx="2016000" cy="4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Obrázek 9" descr="podtisk_modry.emf"/>
          <p:cNvPicPr/>
          <p:nvPr/>
        </p:nvPicPr>
        <p:blipFill>
          <a:blip r:embed="rId3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40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Obdélník 8" descr=""/>
          <p:cNvPicPr/>
          <p:nvPr/>
        </p:nvPicPr>
        <p:blipFill>
          <a:blip r:embed="rId4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rázek 9" descr="podtisk_modry.emf"/>
          <p:cNvPicPr/>
          <p:nvPr/>
        </p:nvPicPr>
        <p:blipFill>
          <a:blip r:embed="rId2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79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délník 8" descr=""/>
          <p:cNvPicPr/>
          <p:nvPr/>
        </p:nvPicPr>
        <p:blipFill>
          <a:blip r:embed="rId3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  <p:sp>
        <p:nvSpPr>
          <p:cNvPr id="81" name="Podnadpis 2"/>
          <p:cNvSpPr/>
          <p:nvPr/>
        </p:nvSpPr>
        <p:spPr>
          <a:xfrm>
            <a:off x="1403280" y="3789360"/>
            <a:ext cx="720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INISTERSTVO PRO MÍSTNÍ ROZVOJ Č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5" descr="mmr_cr_rgb.emf"/>
          <p:cNvPicPr/>
          <p:nvPr/>
        </p:nvPicPr>
        <p:blipFill>
          <a:blip r:embed="rId4"/>
          <a:stretch/>
        </p:blipFill>
        <p:spPr>
          <a:xfrm>
            <a:off x="324000" y="692280"/>
            <a:ext cx="2565360" cy="56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Obrázek 9" descr="podtisk_modry.emf"/>
          <p:cNvPicPr/>
          <p:nvPr/>
        </p:nvPicPr>
        <p:blipFill>
          <a:blip r:embed="rId2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120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délník 8" descr=""/>
          <p:cNvPicPr/>
          <p:nvPr/>
        </p:nvPicPr>
        <p:blipFill>
          <a:blip r:embed="rId3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  <p:pic>
        <p:nvPicPr>
          <p:cNvPr id="122" name="Obrázek 4" descr="mmr_cr_rgb.emf"/>
          <p:cNvPicPr/>
          <p:nvPr/>
        </p:nvPicPr>
        <p:blipFill>
          <a:blip r:embed="rId4"/>
          <a:stretch/>
        </p:blipFill>
        <p:spPr>
          <a:xfrm>
            <a:off x="468360" y="620640"/>
            <a:ext cx="2016000" cy="443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brázek 9" descr="podtisk_modry.emf"/>
          <p:cNvPicPr/>
          <p:nvPr/>
        </p:nvPicPr>
        <p:blipFill>
          <a:blip r:embed="rId2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162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délník 8" descr=""/>
          <p:cNvPicPr/>
          <p:nvPr/>
        </p:nvPicPr>
        <p:blipFill>
          <a:blip r:embed="rId3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4" descr="mmr_cr_rgb.emf"/>
          <p:cNvPicPr/>
          <p:nvPr/>
        </p:nvPicPr>
        <p:blipFill>
          <a:blip r:embed="rId4"/>
          <a:stretch/>
        </p:blipFill>
        <p:spPr>
          <a:xfrm>
            <a:off x="468360" y="620640"/>
            <a:ext cx="2016000" cy="4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Obrázek 9" descr="podtisk_modry.emf"/>
          <p:cNvPicPr/>
          <p:nvPr/>
        </p:nvPicPr>
        <p:blipFill>
          <a:blip r:embed="rId2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202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Obdélník 8" descr=""/>
          <p:cNvPicPr/>
          <p:nvPr/>
        </p:nvPicPr>
        <p:blipFill>
          <a:blip r:embed="rId3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  <p:pic>
        <p:nvPicPr>
          <p:cNvPr id="204" name="Obrázek 4" descr="mmr_cr_rgb.emf"/>
          <p:cNvPicPr/>
          <p:nvPr/>
        </p:nvPicPr>
        <p:blipFill>
          <a:blip r:embed="rId4"/>
          <a:stretch/>
        </p:blipFill>
        <p:spPr>
          <a:xfrm>
            <a:off x="468360" y="620640"/>
            <a:ext cx="2016000" cy="4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Obrázek 9" descr="podtisk_modry.emf"/>
          <p:cNvPicPr/>
          <p:nvPr/>
        </p:nvPicPr>
        <p:blipFill>
          <a:blip r:embed="rId3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242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délník 8" descr=""/>
          <p:cNvPicPr/>
          <p:nvPr/>
        </p:nvPicPr>
        <p:blipFill>
          <a:blip r:embed="rId4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  <p:sp>
        <p:nvSpPr>
          <p:cNvPr id="244" name="Podnadpis 2"/>
          <p:cNvSpPr/>
          <p:nvPr/>
        </p:nvSpPr>
        <p:spPr>
          <a:xfrm>
            <a:off x="1403280" y="3789360"/>
            <a:ext cx="720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INISTERSTVO PRO MÍSTNÍ ROZVOJ Č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Obrázek 5" descr="mmr_cr_rgb.emf"/>
          <p:cNvPicPr/>
          <p:nvPr/>
        </p:nvPicPr>
        <p:blipFill>
          <a:blip r:embed="rId5"/>
          <a:stretch/>
        </p:blipFill>
        <p:spPr>
          <a:xfrm>
            <a:off x="324000" y="692280"/>
            <a:ext cx="2565360" cy="56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Obrázek 9" descr="podtisk_modry.emf"/>
          <p:cNvPicPr/>
          <p:nvPr/>
        </p:nvPicPr>
        <p:blipFill>
          <a:blip r:embed="rId3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283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Obdélník 8" descr=""/>
          <p:cNvPicPr/>
          <p:nvPr/>
        </p:nvPicPr>
        <p:blipFill>
          <a:blip r:embed="rId4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  <p:pic>
        <p:nvPicPr>
          <p:cNvPr id="285" name="Obrázek 4" descr="mmr_cr_rgb.emf"/>
          <p:cNvPicPr/>
          <p:nvPr/>
        </p:nvPicPr>
        <p:blipFill>
          <a:blip r:embed="rId5"/>
          <a:stretch/>
        </p:blipFill>
        <p:spPr>
          <a:xfrm>
            <a:off x="468360" y="620640"/>
            <a:ext cx="2016000" cy="4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Obrázek 9" descr="podtisk_modry.emf"/>
          <p:cNvPicPr/>
          <p:nvPr/>
        </p:nvPicPr>
        <p:blipFill>
          <a:blip r:embed="rId3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323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Obdélník 8" descr=""/>
          <p:cNvPicPr/>
          <p:nvPr/>
        </p:nvPicPr>
        <p:blipFill>
          <a:blip r:embed="rId4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  <p:pic>
        <p:nvPicPr>
          <p:cNvPr id="325" name="Obrázek 4" descr="mmr_cr_rgb.emf"/>
          <p:cNvPicPr/>
          <p:nvPr/>
        </p:nvPicPr>
        <p:blipFill>
          <a:blip r:embed="rId5"/>
          <a:stretch/>
        </p:blipFill>
        <p:spPr>
          <a:xfrm>
            <a:off x="468360" y="620640"/>
            <a:ext cx="2016000" cy="4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mr.cz/" TargetMode="External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mr.cz/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trukturalni-fondy.cz/getmedia/c87ba7ea-d200-4636-bdb3-14dc3eda07a8/MMR-Operacni-programy_Obce_6000ks_WEB.pdf?width=0&amp;height=0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zdena.tuha@mmr.cz" TargetMode="External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234936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dbor regionální politi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inisterstvo pro místní roz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4. května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Letoh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1700280"/>
            <a:ext cx="8291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99"/>
                </a:solidFill>
                <a:latin typeface="Arial"/>
                <a:ea typeface="Arial"/>
              </a:rPr>
              <a:t>Národní dotační progra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95280" y="206064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ýzva k předkládání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Hodnoc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Formál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ěc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Jednání hodnotitelské k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chválení rozhodnutím ministry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veřejnění výsledků na </a:t>
            </a:r>
            <a:r>
              <a:rPr b="0" lang="cs-CZ" sz="2800" spc="-1" strike="noStrike" u="sng">
                <a:solidFill>
                  <a:srgbClr val="00af3f"/>
                </a:solidFill>
                <a:uFillTx/>
                <a:latin typeface="Arial"/>
                <a:ea typeface="Arial"/>
                <a:hlinkClick r:id="rId1"/>
              </a:rPr>
              <a:t>www.mm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  <a:ea typeface="Arial"/>
              </a:rPr>
              <a:t>Administrace progra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  <a:ea typeface="Arial"/>
              </a:rPr>
              <a:t>Administrace žádostí PO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Zástupný symbol pro obsah 7" descr=""/>
          <p:cNvPicPr/>
          <p:nvPr/>
        </p:nvPicPr>
        <p:blipFill>
          <a:blip r:embed="rId1"/>
          <a:stretch/>
        </p:blipFill>
        <p:spPr>
          <a:xfrm>
            <a:off x="698400" y="2060640"/>
            <a:ext cx="4840560" cy="2736720"/>
          </a:xfrm>
          <a:prstGeom prst="rect">
            <a:avLst/>
          </a:prstGeom>
          <a:ln w="0">
            <a:noFill/>
          </a:ln>
        </p:spPr>
      </p:pic>
      <p:pic>
        <p:nvPicPr>
          <p:cNvPr id="432" name="Obrázek 8" descr=""/>
          <p:cNvPicPr/>
          <p:nvPr/>
        </p:nvPicPr>
        <p:blipFill>
          <a:blip r:embed="rId2"/>
          <a:stretch/>
        </p:blipFill>
        <p:spPr>
          <a:xfrm>
            <a:off x="4492800" y="3860640"/>
            <a:ext cx="4457520" cy="2521080"/>
          </a:xfrm>
          <a:prstGeom prst="rect">
            <a:avLst/>
          </a:prstGeom>
          <a:ln w="0">
            <a:noFill/>
          </a:ln>
        </p:spPr>
      </p:pic>
      <p:sp>
        <p:nvSpPr>
          <p:cNvPr id="433" name="TextovéPole 9"/>
          <p:cNvSpPr/>
          <p:nvPr/>
        </p:nvSpPr>
        <p:spPr>
          <a:xfrm>
            <a:off x="684360" y="5121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rozebiratelná“ podoba žád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95280" y="213336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rodní program podpory cestovního ruch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program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stování dostupné vš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nových produktů cestovního ruchu, aktivní začlenění cílových skupin, snížení sezónnosti, vytvoření podmínek pro zlepšení infrastruktury cestovního ruchu, zpřístupnění atraktiv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pora rozvoje cestovního ruchu v regionech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edná se o podporu občanské vybavenost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bcí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egistrováno 80 žádostí (45 obce, 35 podnikatelské subjek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okace – 80 mil. 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více žádostí ze Zlínského kraje. Karlovarský kraj nepodal žád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91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  <a:ea typeface="Arial"/>
              </a:rPr>
              <a:t>Podpora cestovního ruc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95280" y="220500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858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Proces nastaven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Provázanost podporovaných aktivit na strategické dokumen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slovení RSK, Asociace krajů i subjektů C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Eliminace dvojího financování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Oprávnění žadatelé / podporované aktivity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Podnikatelské subjekty / investiční aktiv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amosprávné subjekty / investiční aktivity a neinvestiční aktiv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Destinační společnosti (samosprávné subjekty) / marketingové aktiv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ěcné zaměření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doprovodná infrastruktura, marketingové aktivity, udržitelný cestovní ru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Dotace ze státního rozpočtu max. 50%, min. 50% vlastní zdroj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eřejná podpora kompatibilní s pravidlem de minim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Max. 2 leté projekty (dotace musí být čerpána v prvním roce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99"/>
                </a:solidFill>
                <a:latin typeface="Arial"/>
                <a:ea typeface="Arial"/>
              </a:rPr>
              <a:t>Národní program podpory cestovního ruchu 2016 – 2020 </a:t>
            </a:r>
            <a:r>
              <a:rPr b="1" lang="pl-PL" sz="3200" spc="-1" strike="noStrike">
                <a:solidFill>
                  <a:srgbClr val="00af3f"/>
                </a:solidFill>
                <a:latin typeface="Arial"/>
                <a:ea typeface="Arial"/>
              </a:rPr>
              <a:t>-</a:t>
            </a:r>
            <a:r>
              <a:rPr b="1" lang="pl-PL" sz="32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pl-PL" sz="3200" spc="-1" strike="noStrike">
                <a:solidFill>
                  <a:srgbClr val="00af3f"/>
                </a:solidFill>
                <a:latin typeface="Arial"/>
                <a:ea typeface="Arial"/>
              </a:rPr>
              <a:t>v příprav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ovéPole 3"/>
          <p:cNvSpPr/>
          <p:nvPr/>
        </p:nvSpPr>
        <p:spPr>
          <a:xfrm>
            <a:off x="611280" y="6093000"/>
            <a:ext cx="48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0000"/>
                </a:solidFill>
                <a:latin typeface="Arial"/>
              </a:rPr>
              <a:t>Podávání žádostí: 2. pol. roku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95280" y="2349360"/>
            <a:ext cx="82915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nel 2013+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V č. 468/2012 Sb. – úvěr na opravy a modernizace bytových domů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Úvěry pro ob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V č. 396/2001 Sb. - na opravy a modernizace byt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tavba nájemních byt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V č. 284/2011 Sb. – zvýhodněný úvěr při výstavbě nájemních bytů (senioři, osoby se zdravotním postižením, nízkými příjmy a postižené živelní pohromou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  <a:ea typeface="Arial"/>
              </a:rPr>
              <a:t>Podpora sociálního bydlení ze SFR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2" descr="D:\DATA\SFRB\LOGO\SFRB_logo_4c_RGB.jpg"/>
          <p:cNvPicPr/>
          <p:nvPr/>
        </p:nvPicPr>
        <p:blipFill>
          <a:blip r:embed="rId1"/>
          <a:stretch/>
        </p:blipFill>
        <p:spPr>
          <a:xfrm>
            <a:off x="7596360" y="485640"/>
            <a:ext cx="1255680" cy="76356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95280" y="213336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Záruky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 NV č. 370/2004 Sb. – ručení za splácení úvěrů na výstavbu nájemních bytů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Úvěr 150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NV č. 28/2006 Sb. – úvěry pro mladé na opravy a modernizaci vlastního bydlení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Živel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 NV č. 319/2014 Sb. – úvěry na obnovu obydlí postiženého živelní pohromou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5280" y="126360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  <a:ea typeface="Arial"/>
              </a:rPr>
              <a:t>Podpora sociálního bydlení ze SFR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D:\DATA\SFRB\LOGO\SFRB_logo_4c_RGB.jpg"/>
          <p:cNvPicPr/>
          <p:nvPr/>
        </p:nvPicPr>
        <p:blipFill>
          <a:blip r:embed="rId1"/>
          <a:stretch/>
        </p:blipFill>
        <p:spPr>
          <a:xfrm>
            <a:off x="7596360" y="485640"/>
            <a:ext cx="1255680" cy="76356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95280" y="2060280"/>
            <a:ext cx="82915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še dotace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70% uznatelných náklad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ávání žádostí: každoročně v září pro rok následují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lasti podpory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bariérové užívání stave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radenství v oblasti bydle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držitelný rozvoj cestovního ruc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držitelný rozvoj na místní a regionální úrov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pora činnosti Horské služby Č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99"/>
                </a:solidFill>
                <a:latin typeface="Arial"/>
                <a:ea typeface="Arial"/>
              </a:rPr>
              <a:t>Dotace pro nestátní neziskové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bdélník 2"/>
          <p:cNvSpPr/>
          <p:nvPr/>
        </p:nvSpPr>
        <p:spPr>
          <a:xfrm>
            <a:off x="539640" y="6021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2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af3f"/>
                </a:solidFill>
                <a:latin typeface="Arial"/>
              </a:rPr>
              <a:t>Podáno   101  žádostí  a  vyhověno  51    žádostí  - 166 mil. Kč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  <a:ea typeface="Arial"/>
              </a:rPr>
              <a:t>Podpora územně plánovacích činností ob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0920" y="2060640"/>
            <a:ext cx="8281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Období 2016-2020 (alokace 2016: 20 mil. Kč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Pro rok 2016 bylo obdrženo 168 žádostí v celkové výši 35 mil. Kč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yhlášení výzvy pro rok 2017 se předpokládá na podzim 2016 s předpokládanou alokací 20 mil. Kč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Dotační titul: územní plá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Příjemce: obec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(mimo ORP, hl. město Prahu a mimo obce, které pořídily/pořizují územní plán z IOP nebo Programu rozvoje venkov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Relevantní informace jsou zveřejněny na internetových stránkách </a:t>
            </a:r>
            <a:r>
              <a:rPr b="0" lang="cs-CZ" sz="2100" spc="-1" strike="noStrike" u="sng">
                <a:solidFill>
                  <a:srgbClr val="00af3f"/>
                </a:solidFill>
                <a:uFillTx/>
                <a:latin typeface="Arial"/>
                <a:ea typeface="Arial"/>
                <a:hlinkClick r:id="rId1"/>
              </a:rPr>
              <a:t>www.mmr.cz</a:t>
            </a:r>
            <a:r>
              <a:rPr b="0" lang="cs-CZ" sz="21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395280" y="206064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915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  <a:ea typeface="Arial"/>
              </a:rPr>
              <a:t>Statistika úspěšnosti – národní progr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684360" y="1844640"/>
          <a:ext cx="7775280" cy="4805280"/>
        </p:xfrm>
        <a:graphic>
          <a:graphicData uri="http://schemas.openxmlformats.org/drawingml/2006/table">
            <a:tbl>
              <a:tblPr/>
              <a:tblGrid>
                <a:gridCol w="4751280"/>
                <a:gridCol w="1511280"/>
                <a:gridCol w="1512720"/>
              </a:tblGrid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ložené žád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válené žád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77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obnovy a rozvoje venko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de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nova obecního a krajského majetku po živelných pohromá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odstraňování bariér v budová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de"/>
                    </a:solidFill>
                  </a:tcPr>
                </a:tc>
              </a:tr>
              <a:tr h="577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revitalizace územ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cestovního ruchu (podprogram: Cestování dostupné vše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de"/>
                    </a:solidFill>
                  </a:tcPr>
                </a:tc>
              </a:tr>
              <a:tr h="5778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nestátních neziskových organizac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f"/>
                    </a:solidFill>
                  </a:tcPr>
                </a:tc>
              </a:tr>
              <a:tr h="5752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územně plánovacích činností obc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9152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  <a:ea typeface="Arial"/>
              </a:rPr>
              <a:t>Realizace územní dim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95280" y="1916280"/>
            <a:ext cx="8353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af3f"/>
                </a:solidFill>
                <a:latin typeface="Arial"/>
                <a:ea typeface="Arial"/>
              </a:rPr>
              <a:t>Individuální  projekty v rámci cílených výze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cíleno na vymezená územ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af3f"/>
                </a:solidFill>
                <a:latin typeface="Arial"/>
                <a:ea typeface="Arial"/>
              </a:rPr>
              <a:t>Integrované nástroje (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Integrované územní investi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ITI)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ažská, Brněnská, Ostravská, Plzeňská,  Ústecko – chomutovská, Hradecko-pardubická, Olomoucká aglomera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Integrované plány rozvoje územ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IPRÚ)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území tzv. regionálních pólů rozvoje  (Karlovy Vary, Liberec – Jablonec, České Budějovice, Jihlava, Zlín, Mladá Boleslav)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  <a:ea typeface="Arial"/>
              </a:rPr>
              <a:t>Komunitně vedený místní rozvoj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  <a:ea typeface="Arial"/>
              </a:rPr>
              <a:t>(CLLD) –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  <a:ea typeface="Arial"/>
              </a:rPr>
              <a:t>Realizováno ve venkovském prostoru (cca 180 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99"/>
                </a:solidFill>
                <a:latin typeface="Arial"/>
                <a:ea typeface="Arial"/>
              </a:rPr>
              <a:t>Využití IN upravuje metodický pokyn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(MPI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95280" y="198900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Arial"/>
                <a:ea typeface="Arial"/>
              </a:rPr>
              <a:t>Regionální politik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Podpora obnovy a rozvoje venkova (PORV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Obnova obecního a krajského majetku po živelných pohromác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Podpora odstraňování bariér v budovác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Podpora revitalizace územ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Arial"/>
                <a:ea typeface="Arial"/>
              </a:rPr>
              <a:t>Cestovní ruch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Národní program podpory cestovního ruchu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Arial"/>
                <a:ea typeface="Arial"/>
              </a:rPr>
              <a:t>Bytová politik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Regenerace sídlišť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Technická infrastruktur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Olověné rozvod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Podporované byt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Bytové domy bez barié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Arial"/>
                <a:ea typeface="Arial"/>
              </a:rPr>
              <a:t>Státní fond rozvoje bydle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Arial"/>
                <a:ea typeface="Arial"/>
              </a:rPr>
              <a:t>Nestátní neziskové organiz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Arial"/>
                <a:ea typeface="Arial"/>
              </a:rPr>
              <a:t>Podpora územně plánovacích činností obc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99"/>
                </a:solidFill>
                <a:latin typeface="Arial"/>
                <a:ea typeface="Arial"/>
              </a:rPr>
              <a:t>Národní dotační progr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95280" y="206064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132948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200" spc="-1" strike="noStrike"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457" name="Picture 5" descr=""/>
          <p:cNvPicPr/>
          <p:nvPr/>
        </p:nvPicPr>
        <p:blipFill>
          <a:blip r:embed="rId1"/>
          <a:stretch/>
        </p:blipFill>
        <p:spPr>
          <a:xfrm>
            <a:off x="0" y="404640"/>
            <a:ext cx="9036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426960" y="6377040"/>
            <a:ext cx="82900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 u="sng">
                <a:solidFill>
                  <a:srgbClr val="00af3f"/>
                </a:solidFill>
                <a:uFillTx/>
                <a:latin typeface="Arial"/>
                <a:ea typeface="Arial"/>
                <a:hlinkClick r:id="rId1"/>
              </a:rPr>
              <a:t>http://www.strukturalni-fondy.cz/getmedia/c87ba7ea-d200-4636-bdb3-14dc3eda07a8/MMR-Operacni-programy_Obce_6000ks_WEB.pdf?width=0&amp;height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4" descr=""/>
          <p:cNvPicPr/>
          <p:nvPr/>
        </p:nvPicPr>
        <p:blipFill>
          <a:blip r:embed="rId2"/>
          <a:stretch/>
        </p:blipFill>
        <p:spPr>
          <a:xfrm>
            <a:off x="0" y="115920"/>
            <a:ext cx="8028000" cy="6121440"/>
          </a:xfrm>
          <a:prstGeom prst="rect">
            <a:avLst/>
          </a:prstGeom>
          <a:ln w="0">
            <a:noFill/>
          </a:ln>
        </p:spPr>
      </p:pic>
      <p:sp>
        <p:nvSpPr>
          <p:cNvPr id="460" name="TextovéPole 3"/>
          <p:cNvSpPr/>
          <p:nvPr/>
        </p:nvSpPr>
        <p:spPr>
          <a:xfrm>
            <a:off x="8317080" y="6308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95280" y="1915920"/>
            <a:ext cx="8291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1991 – Program obnovy venkov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– přijat usnesením vládou Č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 – iniciativa Spolku pro obnovu venkova ČR – první ročník soutěže pod názvem „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Soutěž o nejzdařilejší program obnovy vesnic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Cíl soutěž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povzbudit obyvatele venkova k aktivní účasti na rozvoji svého domov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zveřejnit rozmanitost a pestrost uskutečňovaní programů obnovy vesnic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upozornit širokou veřejnost na význam venkov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Soutěž Vesnice 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95280" y="206064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22. ročník soutěž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. března – 29. dubna příjem přihláš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věten a červen – hodnocení krajských k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28.8. – 3.9. hodnocení celostátního 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7.9. – vyhlášení celostátních výsledků, Luhačo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7.10. – celostátní slavnost ve Vesnici roku 201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  <a:ea typeface="Arial"/>
              </a:rPr>
              <a:t>Soutěž Vesnice roku 201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24000" y="4076640"/>
            <a:ext cx="829152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gr. Zdena Tuh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af3f"/>
                </a:solidFill>
                <a:uFillTx/>
                <a:latin typeface="Arial"/>
                <a:ea typeface="Arial"/>
                <a:hlinkClick r:id="rId1"/>
              </a:rPr>
              <a:t>zdena.tuha@mm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34 154 1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24000" y="2924280"/>
            <a:ext cx="8291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  <a:ea typeface="Arial"/>
              </a:rPr>
              <a:t>Přeji Vám mnoho úspěch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95280" y="234936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Cíl podprogram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pořit obnovu a rozvoj venkovských obc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říjemci podpory: obce do 3 tis. obyv./ svazky ob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lokace na podprogram pro rok 2016: 375 mil. K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99"/>
                </a:solidFill>
                <a:latin typeface="Arial"/>
                <a:ea typeface="Arial"/>
              </a:rPr>
              <a:t>Podpora obnovy a rozvoje venk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395280" y="220500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otační titu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dpora vítězů soutěže Vesnice r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dpora zapojení dětí a mládeže do komunitního života v ob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dpora spolupráce obcí na obnově a rozvoji venk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dpora obnovy drobných sakrálních staveb v ob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dpora obnovy a rekonstrukce místních komunik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99"/>
                </a:solidFill>
                <a:latin typeface="Arial"/>
                <a:ea typeface="Arial"/>
              </a:rPr>
              <a:t>Podpora obnovy a rozvoje venk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95280" y="206064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99"/>
                </a:solidFill>
                <a:latin typeface="Arial"/>
                <a:ea typeface="Arial"/>
              </a:rPr>
              <a:t>Podpora obnovy a rozvoje venk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539640" y="2708280"/>
          <a:ext cx="8147160" cy="2373480"/>
        </p:xfrm>
        <a:graphic>
          <a:graphicData uri="http://schemas.openxmlformats.org/drawingml/2006/table">
            <a:tbl>
              <a:tblPr/>
              <a:tblGrid>
                <a:gridCol w="4251600"/>
                <a:gridCol w="1807920"/>
                <a:gridCol w="2087640"/>
              </a:tblGrid>
              <a:tr h="284040"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obnovy a rozvoje venkova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tační tit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ané žádost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válené žádost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vítězů soutěže Vesnice ro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zapojení dětí a mládeže do komunitního života v ob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spolupráce obcí na obnově a rozvoji venko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obnovy drobných sakrálních stave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obnovy místních komunikac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95280" y="244944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otační titul č. 1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– pro území, kd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vyhlášen nouzový stav nebo stav nebezpeč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otační titul č. 2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– pro území, kde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B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vyhlášen nouzový stav nebo stav nebezpeč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31400" indent="-3254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Žadatel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obec, kra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1400" indent="-3254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ýše dotace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DT č. 1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až 90% (obce), až 85% (kraj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1400" indent="-32544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DT č. 2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až 70% (obce), až 40% (kraj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1400" indent="-32544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31400" indent="-32544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lokace pro každý rok DT č. 2:  50 mil. K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31400" indent="-32544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případě stavu nouze či nebezpečí = Vláda ČR schválí strategii = navýše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99"/>
                </a:solidFill>
                <a:latin typeface="Arial"/>
                <a:ea typeface="Arial"/>
              </a:rPr>
              <a:t>Obnova obecního a krajského majetku po živelných pohrom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  <a:ea typeface="Arial"/>
              </a:rPr>
              <a:t>Podpora odstraňování bariér v budovác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8000" y="1889280"/>
            <a:ext cx="8496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program:  Odstraňování bariér v domech s pečovatelskou službou a městských a obecních úř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straňování bariér v návaznosti na Národní rozvojový program mobility pro všechn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Žadatel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obec, k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ýše dotace: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do 50% uznatelných nákladů na akc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program EUROKLÍČ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stupnosti veřejných sociálních a technických kompenzačních zařízení (např. výtahů) pro osoby se sníženou schopností pohyb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Žadatel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ezisková orga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Výše dotace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do 100% uznatelných nákladů na akc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okace pro rok 2016: 20 mil.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  <a:ea typeface="Arial"/>
              </a:rPr>
              <a:t>Demolice budov v sociálně vyloučených lokalit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95280" y="2442960"/>
            <a:ext cx="8291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Forma podp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vestiční i neinvestičn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ž 80% celkových vynaložených uznateln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yplácení na základě předložených fak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lokace pro rok 20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00 mil.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95280" y="234936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kladní podmín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ec musí mít objekt ve svém vlastnictv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jekt nesmí být zatížen žádnými závaz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utné platné povolení pro odstranění stavb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 požadováno mít zpracovanou situační analýzu, která dokládá, že existence nevyhovující nemovitosti má negativní sociální a ekonomické dopady na lokal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 nutné mít zpracovaný Projekt následného využití revitalizovaného území, jehož obsahem je celkové řešení lokality s nevyhovující nemovitost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ec musí mít zajištěno náhradní bydlení pro všechny případné současné uživatele nevyhovující nemovito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dporu nelze použít pro již započaté akce (tam kde je podepsána smlouva o dílo před podáním žádost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  <a:ea typeface="Arial"/>
              </a:rPr>
              <a:t>Demolice budov v sociálně vyloučených lokalit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06:46:08Z</dcterms:created>
  <dc:creator>uzivatel</dc:creator>
  <dc:description/>
  <dc:language>en-US</dc:language>
  <cp:lastModifiedBy>uzivatel</cp:lastModifiedBy>
  <cp:lastPrinted>2016-02-18T13:05:15Z</cp:lastPrinted>
  <dcterms:modified xsi:type="dcterms:W3CDTF">2016-05-18T07:41:15Z</dcterms:modified>
  <cp:revision>189</cp:revision>
  <dc:subject/>
  <dc:title>Udržovací práce  na „Kapli Svatých andělů strážných v Říkově evidenční č. 117D815000798</dc:title>
</cp:coreProperties>
</file>